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58BB84-0857-462C-A320-1A0A6FA8F74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The first ionization energy is the energy required to remove one electron from an atom. The second ionization energy is the energy required to remove a second valence electron from the ion.  </a:t>
            </a:r>
            <a:endParaRPr b="0" lang="en-US" sz="1200" spc="-1" strike="noStrike">
              <a:solidFill>
                <a:srgbClr val="000000"/>
              </a:solidFill>
              <a:latin typeface="Calibri"/>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Successive ionization energies increase. The second ionization energy is always greater than the first ionization energy.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E70A92-014A-4E4C-84E2-46A01ACD636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you are looking at ionization energies, when the energy jumps up significantly, the element is in the previous column.  Again, we don’t look at transition elemen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C1CAA2-4EB3-4BCC-B984-7AEC4EE3802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example, look at Al…I1, I2, and I3 are relatively close together, but I4 is huge in comparison.  Therefore, I know Al is in the 3</a:t>
            </a:r>
            <a:r>
              <a:rPr b="0" lang="en-US" sz="1200" spc="-1" strike="noStrike" baseline="30000">
                <a:solidFill>
                  <a:srgbClr val="000000"/>
                </a:solidFill>
                <a:latin typeface="Calibri"/>
              </a:rPr>
              <a:t>rd</a:t>
            </a:r>
            <a:r>
              <a:rPr b="0" lang="en-US" sz="1200" spc="-1" strike="noStrike">
                <a:solidFill>
                  <a:srgbClr val="000000"/>
                </a:solidFill>
                <a:latin typeface="Calibri"/>
              </a:rPr>
              <a:t> column…and if you look at the periodic table, you will see I am righ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t why does it jump so high?  Because, now you are trying to rip off electrons that are in a full inner shell.  The atom doesn’t want to let them go.  Back to Al as the example, it has 3 valence electrons, and is willing to give them up (easier to give up 3 than take on 5), so the ionization energies are pretty low.  But once those 3 are gone, and you try to take one more, you are trying to take it from the inner she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0BEF95-FAB5-48D7-A82E-BC7C5FE89A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fact, we could take it a step further, and look at the ionization energy it takes to rip off ALL of aluminum’s electrons.  See the jump in the ionization energy at level 4, or the 4</a:t>
            </a:r>
            <a:r>
              <a:rPr b="0" lang="en-US" sz="1200" spc="-1" strike="noStrike" baseline="30000">
                <a:solidFill>
                  <a:srgbClr val="000000"/>
                </a:solidFill>
                <a:latin typeface="Calibri"/>
              </a:rPr>
              <a:t>th</a:t>
            </a:r>
            <a:r>
              <a:rPr b="0" lang="en-US" sz="1200" spc="-1" strike="noStrike">
                <a:solidFill>
                  <a:srgbClr val="000000"/>
                </a:solidFill>
                <a:latin typeface="Calibri"/>
              </a:rPr>
              <a:t> electron?  </a:t>
            </a: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0C79D8-6D08-4EE2-9BD1-66551688479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is happening between the 11</a:t>
            </a:r>
            <a:r>
              <a:rPr b="0" lang="en-US" sz="1200" spc="-1" strike="noStrike" baseline="30000">
                <a:solidFill>
                  <a:srgbClr val="000000"/>
                </a:solidFill>
                <a:latin typeface="Calibri"/>
              </a:rPr>
              <a:t>th</a:t>
            </a:r>
            <a:r>
              <a:rPr b="0" lang="en-US" sz="1200" spc="-1" strike="noStrike">
                <a:solidFill>
                  <a:srgbClr val="000000"/>
                </a:solidFill>
                <a:latin typeface="Calibri"/>
              </a:rPr>
              <a:t> and 12</a:t>
            </a:r>
            <a:r>
              <a:rPr b="0" lang="en-US" sz="1200" spc="-1" strike="noStrike" baseline="30000">
                <a:solidFill>
                  <a:srgbClr val="000000"/>
                </a:solidFill>
                <a:latin typeface="Calibri"/>
              </a:rPr>
              <a:t>th</a:t>
            </a:r>
            <a:r>
              <a:rPr b="0" lang="en-US" sz="1200" spc="-1" strike="noStrike">
                <a:solidFill>
                  <a:srgbClr val="000000"/>
                </a:solidFill>
                <a:latin typeface="Calibri"/>
              </a:rPr>
              <a:t> electron?  Write your answer on the back of your homework.</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1E52A4-94E9-42F1-8FA3-E93E870DEE1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onization energy is the energy required to remove an electron from an atom.  </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BC519C-6354-48F4-AF96-0365D30E14F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makes sense that atoms that normally give up their electrons to get a full octet (8 outside electrons) would have low ionization energy.  It just doesn’t take that much energy to rip that extra electron off.</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59DDBB-9589-48E6-843D-768B81C8C02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ever, if you are trying to take an electron off an element that normally accepts them, it becomes much harder, and requires a lot more energy.  Think of it this way, would an atom with 7 electrons rather give up 7 or accept one?  The ionization energy for atoms that become anions is very high.</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342FFE-FCA0-44A7-B3FF-A539FAF7BAB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You can see in the graph that the larger the atom, the easier it is to rip an electron off.  Also, the more metalic an atom is, the easier it is to rip an electron off.  Look at Li (lower left) compared to Fr (lower right).  Look at Ne (upper left) compared to Rn (middle right).</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3582B2-A7EC-40B9-B040-D583003B513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The ionization energy, or ionization potential, is the energy required to completely remove an electron from a gaseous atom or ion. </a:t>
            </a:r>
            <a:endParaRPr b="0" lang="en-US" sz="1200" spc="-1" strike="noStrike">
              <a:solidFill>
                <a:srgbClr val="000000"/>
              </a:solidFill>
              <a:latin typeface="Calibri"/>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The closer and more tightly bound an electron is to the nucleus, the more difficult it will be to remove, and the higher its ionization energy will be.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8BCBD0-1F27-42F4-946B-0DD4CA3B1BC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Ionization energies increase moving from left to right across a period (decreasing atomic radius). Ionization energy decreases moving down a group (increasing atomic radius). Group I elements have low ionization energies because the loss of an electron forms a stable octet. </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A3C58B-5599-4000-8D08-9EB42E58EA0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way to look at the energy required to rip off an electron from an atom.</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8BEB66-7099-4F93-A227-93EC2ECEE31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5DE7AF-01A7-4258-8DBF-746F6ED996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BB3CC-6E00-4C72-858D-680A77ACF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814140-B5CC-4E3E-B508-334D0CB333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981D87-7F97-4107-8F2E-2662971669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48AA4-3BB4-4A57-BBF4-DC7D5DA34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9E8A7-F4F9-46AD-B04B-1E5A5927A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8E5BF-ED2E-4162-A731-F7437D459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7435B-B23B-473D-8EB5-B8B7B62F0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495CF-44DF-4DB6-A75A-5C567D4F9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DE456-D42B-4612-8F10-C4657A8F5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AB397-4863-4FE2-968E-83C690E02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B6087-7ACF-4C34-AB0B-1B3F2E25E0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2E7B06-3267-432F-94E6-079CC01AF63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ecture: Trends in the </a:t>
            </a:r>
            <a:br>
              <a:rPr sz="4400"/>
            </a:br>
            <a:r>
              <a:rPr b="0" lang="en-US" sz="4400" spc="-1" strike="noStrike">
                <a:solidFill>
                  <a:srgbClr val="000000"/>
                </a:solidFill>
                <a:latin typeface="Calibri"/>
              </a:rPr>
              <a:t>Periodic Table: Ionization Ener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Chemistry</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Unit 5</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Part 7</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1" descr=""/>
          <p:cNvPicPr/>
          <p:nvPr/>
        </p:nvPicPr>
        <p:blipFill>
          <a:blip r:embed="rId1"/>
          <a:stretch/>
        </p:blipFill>
        <p:spPr>
          <a:xfrm>
            <a:off x="0" y="22320"/>
            <a:ext cx="9144000" cy="6835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1"/>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Jazz LET"/>
                <a:ea typeface="Jazz LET"/>
              </a:rPr>
              <a:t>How do you know what element you are looking at based on ionization energies?</a:t>
            </a:r>
            <a:endParaRPr b="0" lang="en-US" sz="2800" spc="-1" strike="noStrike">
              <a:solidFill>
                <a:srgbClr val="000000"/>
              </a:solidFill>
              <a:latin typeface="Calibri"/>
            </a:endParaRPr>
          </a:p>
        </p:txBody>
      </p:sp>
      <p:pic>
        <p:nvPicPr>
          <p:cNvPr id="92" name="Picture 2" descr=""/>
          <p:cNvPicPr/>
          <p:nvPr/>
        </p:nvPicPr>
        <p:blipFill>
          <a:blip r:embed="rId1"/>
          <a:stretch/>
        </p:blipFill>
        <p:spPr>
          <a:xfrm>
            <a:off x="0" y="1612800"/>
            <a:ext cx="9104400" cy="3441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1" descr=""/>
          <p:cNvPicPr/>
          <p:nvPr/>
        </p:nvPicPr>
        <p:blipFill>
          <a:blip r:embed="rId1"/>
          <a:stretch/>
        </p:blipFill>
        <p:spPr>
          <a:xfrm>
            <a:off x="0" y="0"/>
            <a:ext cx="5243400" cy="5618160"/>
          </a:xfrm>
          <a:prstGeom prst="rect">
            <a:avLst/>
          </a:prstGeom>
          <a:ln w="0">
            <a:noFill/>
          </a:ln>
        </p:spPr>
      </p:pic>
      <p:pic>
        <p:nvPicPr>
          <p:cNvPr id="94" name="Picture 2" descr=""/>
          <p:cNvPicPr/>
          <p:nvPr/>
        </p:nvPicPr>
        <p:blipFill>
          <a:blip r:embed="rId2"/>
          <a:stretch/>
        </p:blipFill>
        <p:spPr>
          <a:xfrm>
            <a:off x="4838760" y="5464080"/>
            <a:ext cx="4305240" cy="1384560"/>
          </a:xfrm>
          <a:prstGeom prst="rect">
            <a:avLst/>
          </a:prstGeom>
          <a:ln w="0">
            <a:noFill/>
          </a:ln>
        </p:spPr>
      </p:pic>
      <p:sp>
        <p:nvSpPr>
          <p:cNvPr id="95" name="Down Arrow 3"/>
          <p:cNvSpPr/>
          <p:nvPr/>
        </p:nvSpPr>
        <p:spPr>
          <a:xfrm>
            <a:off x="8521560" y="2540160"/>
            <a:ext cx="451080" cy="2923920"/>
          </a:xfrm>
          <a:prstGeom prst="downArrow">
            <a:avLst>
              <a:gd name="adj1" fmla="val 50000"/>
              <a:gd name="adj2" fmla="val 49966"/>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 descr=""/>
          <p:cNvPicPr/>
          <p:nvPr/>
        </p:nvPicPr>
        <p:blipFill>
          <a:blip r:embed="rId1"/>
          <a:stretch/>
        </p:blipFill>
        <p:spPr>
          <a:xfrm>
            <a:off x="0" y="-15840"/>
            <a:ext cx="9144000" cy="7000920"/>
          </a:xfrm>
          <a:prstGeom prst="rect">
            <a:avLst/>
          </a:prstGeom>
          <a:ln w="0">
            <a:noFill/>
          </a:ln>
        </p:spPr>
      </p:pic>
      <p:sp>
        <p:nvSpPr>
          <p:cNvPr id="97" name="Left-Up Arrow 2"/>
          <p:cNvSpPr/>
          <p:nvPr/>
        </p:nvSpPr>
        <p:spPr>
          <a:xfrm flipH="1" flipV="1">
            <a:off x="2764440" y="1967040"/>
            <a:ext cx="4035240" cy="3543120"/>
          </a:xfrm>
          <a:custGeom>
            <a:avLst/>
            <a:gdLst/>
            <a:ahLst/>
            <a:rect l="l" t="t" r="r" b="b"/>
            <a:pathLst>
              <a:path w="4035548" h="3544238">
                <a:moveTo>
                  <a:pt x="0" y="3232168"/>
                </a:moveTo>
                <a:lnTo>
                  <a:pt x="886060" y="2920098"/>
                </a:lnTo>
                <a:lnTo>
                  <a:pt x="886060" y="3102573"/>
                </a:lnTo>
                <a:lnTo>
                  <a:pt x="3593883" y="3102573"/>
                </a:lnTo>
                <a:lnTo>
                  <a:pt x="3593883" y="886060"/>
                </a:lnTo>
                <a:lnTo>
                  <a:pt x="3411408" y="886060"/>
                </a:lnTo>
                <a:lnTo>
                  <a:pt x="3723478" y="0"/>
                </a:lnTo>
                <a:lnTo>
                  <a:pt x="4035548" y="886060"/>
                </a:lnTo>
                <a:lnTo>
                  <a:pt x="3853073" y="886060"/>
                </a:lnTo>
                <a:lnTo>
                  <a:pt x="3853073" y="3361763"/>
                </a:lnTo>
                <a:lnTo>
                  <a:pt x="886060" y="3361763"/>
                </a:lnTo>
                <a:lnTo>
                  <a:pt x="886060" y="3544238"/>
                </a:lnTo>
                <a:lnTo>
                  <a:pt x="0" y="3232168"/>
                </a:lnTo>
                <a:close/>
              </a:path>
            </a:pathLst>
          </a:custGeom>
          <a:gradFill rotWithShape="0">
            <a:gsLst>
              <a:gs pos="0">
                <a:srgbClr val="9bc1ff"/>
              </a:gs>
              <a:gs pos="100000">
                <a:srgbClr val="3f80cd"/>
              </a:gs>
            </a:gsLst>
            <a:lin ang="5400000"/>
          </a:gradFill>
          <a:ln w="9360">
            <a:solidFill>
              <a:srgbClr val="4a7ebb"/>
            </a:solidFill>
            <a:round/>
          </a:ln>
          <a:effectLst>
            <a:outerShdw dist="23040" dir="5400000" blurRad="0" rotWithShape="0">
              <a:srgbClr val="000000">
                <a:alpha val="35000"/>
              </a:srgbClr>
            </a:outerShdw>
          </a:effectLst>
        </p:spPr>
        <p:style>
          <a:lnRef idx="0"/>
          <a:fillRef idx="0"/>
          <a:effectRef idx="0"/>
          <a:fontRef idx="minor"/>
        </p:style>
        <p:txBody>
          <a:bodyPr anchor="ctr">
            <a:noAutofit/>
          </a:bodyPr>
          <a:p>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1" descr=""/>
          <p:cNvPicPr/>
          <p:nvPr/>
        </p:nvPicPr>
        <p:blipFill>
          <a:blip r:embed="rId1"/>
          <a:stretch/>
        </p:blipFill>
        <p:spPr>
          <a:xfrm>
            <a:off x="0" y="-15840"/>
            <a:ext cx="9144000" cy="7000920"/>
          </a:xfrm>
          <a:prstGeom prst="rect">
            <a:avLst/>
          </a:prstGeom>
          <a:ln w="0">
            <a:noFill/>
          </a:ln>
        </p:spPr>
      </p:pic>
      <p:sp>
        <p:nvSpPr>
          <p:cNvPr id="99" name="Left-Up Arrow 2"/>
          <p:cNvSpPr/>
          <p:nvPr/>
        </p:nvSpPr>
        <p:spPr>
          <a:xfrm flipH="1" flipV="1">
            <a:off x="5120640" y="3687840"/>
            <a:ext cx="1515960" cy="1412640"/>
          </a:xfrm>
          <a:custGeom>
            <a:avLst/>
            <a:gdLst/>
            <a:ahLst/>
            <a:rect l="l" t="t" r="r" b="b"/>
            <a:pathLst>
              <a:path w="1515891" h="1413597">
                <a:moveTo>
                  <a:pt x="0" y="1289130"/>
                </a:moveTo>
                <a:lnTo>
                  <a:pt x="353399" y="1164663"/>
                </a:lnTo>
                <a:lnTo>
                  <a:pt x="353399" y="1237442"/>
                </a:lnTo>
                <a:lnTo>
                  <a:pt x="1339736" y="1237442"/>
                </a:lnTo>
                <a:lnTo>
                  <a:pt x="1339736" y="353399"/>
                </a:lnTo>
                <a:lnTo>
                  <a:pt x="1266957" y="353399"/>
                </a:lnTo>
                <a:lnTo>
                  <a:pt x="1391424" y="0"/>
                </a:lnTo>
                <a:lnTo>
                  <a:pt x="1515891" y="353399"/>
                </a:lnTo>
                <a:lnTo>
                  <a:pt x="1443112" y="353399"/>
                </a:lnTo>
                <a:lnTo>
                  <a:pt x="1443112" y="1340818"/>
                </a:lnTo>
                <a:lnTo>
                  <a:pt x="353399" y="1340818"/>
                </a:lnTo>
                <a:lnTo>
                  <a:pt x="353399" y="1413597"/>
                </a:lnTo>
                <a:lnTo>
                  <a:pt x="0" y="1289130"/>
                </a:lnTo>
                <a:close/>
              </a:path>
            </a:pathLst>
          </a:custGeom>
          <a:gradFill rotWithShape="0">
            <a:gsLst>
              <a:gs pos="0">
                <a:srgbClr val="9bc1ff"/>
              </a:gs>
              <a:gs pos="100000">
                <a:srgbClr val="3f80cd"/>
              </a:gs>
            </a:gsLst>
            <a:lin ang="5400000"/>
          </a:gradFill>
          <a:ln w="9360">
            <a:solidFill>
              <a:srgbClr val="4a7ebb"/>
            </a:solidFill>
            <a:round/>
          </a:ln>
          <a:effectLst>
            <a:outerShdw dist="23040" dir="5400000" blurRad="0" rotWithShape="0">
              <a:srgbClr val="000000">
                <a:alpha val="35000"/>
              </a:srgbClr>
            </a:outerShdw>
          </a:effectLst>
        </p:spPr>
        <p:style>
          <a:lnRef idx="0"/>
          <a:fillRef idx="0"/>
          <a:effectRef idx="0"/>
          <a:fontRef idx="minor"/>
        </p:style>
        <p:txBody>
          <a:bodyPr anchor="ctr">
            <a:noAutofit/>
          </a:bodyPr>
          <a:p>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onization Energ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vie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1" descr=""/>
          <p:cNvPicPr/>
          <p:nvPr/>
        </p:nvPicPr>
        <p:blipFill>
          <a:blip r:embed="rId1"/>
          <a:srcRect l="0" t="0" r="56508" b="0"/>
          <a:stretch/>
        </p:blipFill>
        <p:spPr>
          <a:xfrm>
            <a:off x="566640" y="-20520"/>
            <a:ext cx="7872480" cy="6878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4" descr=""/>
          <p:cNvPicPr/>
          <p:nvPr/>
        </p:nvPicPr>
        <p:blipFill>
          <a:blip r:embed="rId1"/>
          <a:srcRect l="0" t="0" r="2480" b="0"/>
          <a:stretch/>
        </p:blipFill>
        <p:spPr>
          <a:xfrm>
            <a:off x="0" y="479520"/>
            <a:ext cx="9144000" cy="5797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quot;No&quot; Symbol 32"/>
          <p:cNvSpPr/>
          <p:nvPr/>
        </p:nvSpPr>
        <p:spPr>
          <a:xfrm>
            <a:off x="736560" y="246240"/>
            <a:ext cx="7743960" cy="6349680"/>
          </a:xfrm>
          <a:custGeom>
            <a:avLst/>
            <a:gdLst/>
            <a:ahLst/>
            <a:rect l="l" t="t" r="r" b="b"/>
            <a:pathLst>
              <a:path w="7744446" h="6350949">
                <a:moveTo>
                  <a:pt x="0" y="3175475"/>
                </a:moveTo>
                <a:cubicBezTo>
                  <a:pt x="0" y="1421709"/>
                  <a:pt x="1733653" y="0"/>
                  <a:pt x="3872223" y="0"/>
                </a:cubicBezTo>
                <a:cubicBezTo>
                  <a:pt x="6010793" y="0"/>
                  <a:pt x="7744446" y="1421709"/>
                  <a:pt x="7744446" y="3175475"/>
                </a:cubicBezTo>
                <a:cubicBezTo>
                  <a:pt x="7744446" y="4929241"/>
                  <a:pt x="6010793" y="6350950"/>
                  <a:pt x="3872223" y="6350950"/>
                </a:cubicBezTo>
                <a:cubicBezTo>
                  <a:pt x="1733653" y="6350950"/>
                  <a:pt x="0" y="4929241"/>
                  <a:pt x="0" y="3175475"/>
                </a:cubicBezTo>
                <a:close/>
                <a:moveTo>
                  <a:pt x="6141502" y="4232730"/>
                </a:moveTo>
                <a:cubicBezTo>
                  <a:pt x="6939486" y="3294412"/>
                  <a:pt x="6544083" y="2054170"/>
                  <a:pt x="5263543" y="1478877"/>
                </a:cubicBezTo>
                <a:cubicBezTo>
                  <a:pt x="4447961" y="1112470"/>
                  <a:pt x="3430766" y="1094413"/>
                  <a:pt x="2592390" y="1431459"/>
                </a:cubicBezTo>
                <a:lnTo>
                  <a:pt x="6141502" y="4232730"/>
                </a:lnTo>
                <a:close/>
                <a:moveTo>
                  <a:pt x="1602944" y="2118219"/>
                </a:moveTo>
                <a:cubicBezTo>
                  <a:pt x="804960" y="3056537"/>
                  <a:pt x="1200363" y="4296779"/>
                  <a:pt x="2480903" y="4872072"/>
                </a:cubicBezTo>
                <a:cubicBezTo>
                  <a:pt x="3296485" y="5238479"/>
                  <a:pt x="4313680" y="5256536"/>
                  <a:pt x="5152056" y="4919490"/>
                </a:cubicBezTo>
                <a:lnTo>
                  <a:pt x="1602944" y="2118219"/>
                </a:lnTo>
                <a:close/>
              </a:path>
            </a:pathLst>
          </a:custGeom>
          <a:solidFill>
            <a:srgbClr val="c0504d"/>
          </a:solidFill>
          <a:ln w="9360">
            <a:solidFill>
              <a:srgbClr val="c0504d"/>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55" name="Oval 4"/>
          <p:cNvSpPr/>
          <p:nvPr/>
        </p:nvSpPr>
        <p:spPr>
          <a:xfrm>
            <a:off x="1727280" y="2532240"/>
            <a:ext cx="1218960" cy="1218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 name="Text Box 5"/>
          <p:cNvSpPr/>
          <p:nvPr/>
        </p:nvSpPr>
        <p:spPr>
          <a:xfrm>
            <a:off x="1879560" y="2608200"/>
            <a:ext cx="838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9P</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10N</a:t>
            </a:r>
            <a:endParaRPr b="0" lang="en-US" sz="2400" spc="-1" strike="noStrike">
              <a:solidFill>
                <a:srgbClr val="000000"/>
              </a:solidFill>
              <a:latin typeface="Calibri"/>
            </a:endParaRPr>
          </a:p>
        </p:txBody>
      </p:sp>
      <p:sp>
        <p:nvSpPr>
          <p:cNvPr id="57" name="Oval 6"/>
          <p:cNvSpPr/>
          <p:nvPr/>
        </p:nvSpPr>
        <p:spPr>
          <a:xfrm>
            <a:off x="1193760" y="2075040"/>
            <a:ext cx="2209680" cy="2133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 name="Oval 8"/>
          <p:cNvSpPr/>
          <p:nvPr/>
        </p:nvSpPr>
        <p:spPr>
          <a:xfrm>
            <a:off x="888840" y="1770120"/>
            <a:ext cx="2743200" cy="2666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 name="Rectangle 10"/>
          <p:cNvSpPr/>
          <p:nvPr/>
        </p:nvSpPr>
        <p:spPr>
          <a:xfrm>
            <a:off x="2870280" y="2379600"/>
            <a:ext cx="3045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 name="Rectangle 11"/>
          <p:cNvSpPr/>
          <p:nvPr/>
        </p:nvSpPr>
        <p:spPr>
          <a:xfrm>
            <a:off x="1117440" y="2760840"/>
            <a:ext cx="3049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 name="Rectangle 12"/>
          <p:cNvSpPr/>
          <p:nvPr/>
        </p:nvSpPr>
        <p:spPr>
          <a:xfrm>
            <a:off x="1727280" y="1770120"/>
            <a:ext cx="3045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2" name="Rectangle 13"/>
          <p:cNvSpPr/>
          <p:nvPr/>
        </p:nvSpPr>
        <p:spPr>
          <a:xfrm>
            <a:off x="2793960" y="1922400"/>
            <a:ext cx="3049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3" name="Rectangle 14"/>
          <p:cNvSpPr/>
          <p:nvPr/>
        </p:nvSpPr>
        <p:spPr>
          <a:xfrm>
            <a:off x="3556080" y="3141720"/>
            <a:ext cx="3045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4" name="Rectangle 15"/>
          <p:cNvSpPr/>
          <p:nvPr/>
        </p:nvSpPr>
        <p:spPr>
          <a:xfrm>
            <a:off x="2870280" y="4208400"/>
            <a:ext cx="3045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5" name="Rectangle 16"/>
          <p:cNvSpPr/>
          <p:nvPr/>
        </p:nvSpPr>
        <p:spPr>
          <a:xfrm>
            <a:off x="1574640" y="4284720"/>
            <a:ext cx="3049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6" name="Rectangle 17"/>
          <p:cNvSpPr/>
          <p:nvPr/>
        </p:nvSpPr>
        <p:spPr>
          <a:xfrm>
            <a:off x="736560" y="3218040"/>
            <a:ext cx="3049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7" name="Rectangle 18"/>
          <p:cNvSpPr/>
          <p:nvPr/>
        </p:nvSpPr>
        <p:spPr>
          <a:xfrm>
            <a:off x="1041480" y="2151000"/>
            <a:ext cx="3045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8" name="Rectangle 19"/>
          <p:cNvSpPr/>
          <p:nvPr/>
        </p:nvSpPr>
        <p:spPr>
          <a:xfrm>
            <a:off x="4394160" y="4589640"/>
            <a:ext cx="3049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9" name="Line 20"/>
          <p:cNvSpPr/>
          <p:nvPr/>
        </p:nvSpPr>
        <p:spPr>
          <a:xfrm>
            <a:off x="3403440" y="3827520"/>
            <a:ext cx="9907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70" name="Line 21"/>
          <p:cNvSpPr/>
          <p:nvPr/>
        </p:nvSpPr>
        <p:spPr>
          <a:xfrm>
            <a:off x="3708360" y="260820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71" name="Text Box 22"/>
          <p:cNvSpPr/>
          <p:nvPr/>
        </p:nvSpPr>
        <p:spPr>
          <a:xfrm>
            <a:off x="6603840" y="2303640"/>
            <a:ext cx="8384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9P</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10N</a:t>
            </a:r>
            <a:endParaRPr b="0" lang="en-US" sz="2400" spc="-1" strike="noStrike">
              <a:solidFill>
                <a:srgbClr val="000000"/>
              </a:solidFill>
              <a:latin typeface="Calibri"/>
            </a:endParaRPr>
          </a:p>
        </p:txBody>
      </p:sp>
      <p:sp>
        <p:nvSpPr>
          <p:cNvPr id="72" name="Oval 23"/>
          <p:cNvSpPr/>
          <p:nvPr/>
        </p:nvSpPr>
        <p:spPr>
          <a:xfrm>
            <a:off x="6222960" y="2227320"/>
            <a:ext cx="121932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3" name="Oval 24"/>
          <p:cNvSpPr/>
          <p:nvPr/>
        </p:nvSpPr>
        <p:spPr>
          <a:xfrm>
            <a:off x="5689440" y="1770120"/>
            <a:ext cx="2210040" cy="2133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4" name="Oval 25"/>
          <p:cNvSpPr/>
          <p:nvPr/>
        </p:nvSpPr>
        <p:spPr>
          <a:xfrm>
            <a:off x="5460840" y="1465200"/>
            <a:ext cx="2743200" cy="2667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5" name="Rectangle 52"/>
          <p:cNvSpPr/>
          <p:nvPr/>
        </p:nvSpPr>
        <p:spPr>
          <a:xfrm>
            <a:off x="5613480" y="2608200"/>
            <a:ext cx="3045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6" name="Rectangle 54"/>
          <p:cNvSpPr/>
          <p:nvPr/>
        </p:nvSpPr>
        <p:spPr>
          <a:xfrm>
            <a:off x="7746840" y="2684520"/>
            <a:ext cx="3049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7" name="Rectangle 55"/>
          <p:cNvSpPr/>
          <p:nvPr/>
        </p:nvSpPr>
        <p:spPr>
          <a:xfrm>
            <a:off x="7975440" y="3141720"/>
            <a:ext cx="3049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8" name="Rectangle 58"/>
          <p:cNvSpPr/>
          <p:nvPr/>
        </p:nvSpPr>
        <p:spPr>
          <a:xfrm>
            <a:off x="5537160" y="3598920"/>
            <a:ext cx="3049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9" name="Rectangle 59"/>
          <p:cNvSpPr/>
          <p:nvPr/>
        </p:nvSpPr>
        <p:spPr>
          <a:xfrm>
            <a:off x="5384880" y="2151000"/>
            <a:ext cx="3045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0" name="Rectangle 60"/>
          <p:cNvSpPr/>
          <p:nvPr/>
        </p:nvSpPr>
        <p:spPr>
          <a:xfrm>
            <a:off x="5994360" y="1617840"/>
            <a:ext cx="3049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1" name="Rectangle 61"/>
          <p:cNvSpPr/>
          <p:nvPr/>
        </p:nvSpPr>
        <p:spPr>
          <a:xfrm>
            <a:off x="6908760" y="1389240"/>
            <a:ext cx="3049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2" name="Rectangle 62"/>
          <p:cNvSpPr/>
          <p:nvPr/>
        </p:nvSpPr>
        <p:spPr>
          <a:xfrm>
            <a:off x="7823160" y="1922400"/>
            <a:ext cx="3049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3" name="TextBox 34"/>
          <p:cNvSpPr/>
          <p:nvPr/>
        </p:nvSpPr>
        <p:spPr>
          <a:xfrm>
            <a:off x="1117440" y="4665600"/>
            <a:ext cx="205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9P + 9E = 0</a:t>
            </a:r>
            <a:endParaRPr b="0" lang="en-US" sz="1800" spc="-1" strike="noStrike">
              <a:solidFill>
                <a:srgbClr val="000000"/>
              </a:solidFill>
              <a:latin typeface="Calibri"/>
            </a:endParaRPr>
          </a:p>
        </p:txBody>
      </p:sp>
      <p:sp>
        <p:nvSpPr>
          <p:cNvPr id="84" name="TextBox 35"/>
          <p:cNvSpPr/>
          <p:nvPr/>
        </p:nvSpPr>
        <p:spPr>
          <a:xfrm>
            <a:off x="5994360" y="4176720"/>
            <a:ext cx="205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9P + 8E = +1</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1" descr=""/>
          <p:cNvPicPr/>
          <p:nvPr/>
        </p:nvPicPr>
        <p:blipFill>
          <a:blip r:embed="rId1"/>
          <a:stretch/>
        </p:blipFill>
        <p:spPr>
          <a:xfrm>
            <a:off x="0" y="666720"/>
            <a:ext cx="9144000" cy="5531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
          <p:cNvPicPr/>
          <p:nvPr/>
        </p:nvPicPr>
        <p:blipFill>
          <a:blip r:embed="rId1"/>
          <a:srcRect l="0" t="0" r="0" b="12069"/>
          <a:stretch/>
        </p:blipFill>
        <p:spPr>
          <a:xfrm>
            <a:off x="3111480" y="2936880"/>
            <a:ext cx="6032520" cy="3695760"/>
          </a:xfrm>
          <a:prstGeom prst="rect">
            <a:avLst/>
          </a:prstGeom>
          <a:ln w="0">
            <a:noFill/>
          </a:ln>
        </p:spPr>
      </p:pic>
      <p:pic>
        <p:nvPicPr>
          <p:cNvPr id="87" name="Picture 3" descr=""/>
          <p:cNvPicPr/>
          <p:nvPr/>
        </p:nvPicPr>
        <p:blipFill>
          <a:blip r:embed="rId2"/>
          <a:stretch/>
        </p:blipFill>
        <p:spPr>
          <a:xfrm>
            <a:off x="0" y="0"/>
            <a:ext cx="4716360" cy="3728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1" descr=""/>
          <p:cNvPicPr/>
          <p:nvPr/>
        </p:nvPicPr>
        <p:blipFill>
          <a:blip r:embed="rId1"/>
          <a:stretch/>
        </p:blipFill>
        <p:spPr>
          <a:xfrm>
            <a:off x="0" y="630360"/>
            <a:ext cx="9144000" cy="5325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1" descr=""/>
          <p:cNvPicPr/>
          <p:nvPr/>
        </p:nvPicPr>
        <p:blipFill>
          <a:blip r:embed="rId1"/>
          <a:srcRect l="7062" t="0" r="7062" b="0"/>
          <a:stretch/>
        </p:blipFill>
        <p:spPr>
          <a:xfrm>
            <a:off x="163440" y="0"/>
            <a:ext cx="88362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15T13:25:30Z</dcterms:created>
  <dc:creator>Staff</dc:creator>
  <dc:description/>
  <dc:language>en-US</dc:language>
  <cp:lastModifiedBy>Staff</cp:lastModifiedBy>
  <dcterms:modified xsi:type="dcterms:W3CDTF">2014-06-03T17:47:18Z</dcterms:modified>
  <cp:revision>7</cp:revision>
  <dc:subject/>
  <dc:title>Lecture: Trends in the  Periodic Table: Ionization Energy</dc:title>
</cp:coreProperties>
</file>